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723-987B-4599-AAC2-83D5651B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256-3F28-414D-AAFD-33F2813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FC3-9C46-4DE9-8B0C-A42A0C3F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5CD-7A33-45CB-ACB0-E513FE38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E04-3DF9-47EA-A8E1-173E0C22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BE98-9BA3-46E0-8C1A-A3E11E6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1475-C95B-4F2A-A108-B80BD01C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A083-E84D-4174-A1BF-8AF55397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46E-B38F-478E-B185-0820F09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B81-D3D4-4C74-A3E2-97EA8DE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38A0-0529-4D2C-B3C5-FB01273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E1F-222E-4C26-8DA3-DB803959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FD53-F7D7-4F39-9A93-BAB55C1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04C-1C2E-4E97-B218-4680A5AC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BED-ABED-4A66-B3C9-3F60D65D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3893-86D0-4172-969B-57CD812A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171D-9ABD-4C4E-825C-DD3ABABA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46AD-895E-41AB-B5CC-C37CF8D6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D19F-C9F8-493D-B2F4-100FC3C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8DA4-F32B-4443-8B3F-F84605B6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D302-D543-47BE-861F-A621470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9159-44F9-4E7E-910B-C618B098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0CF-80AC-4913-A2C0-45C0DC0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C8DC-FCCE-42DC-A726-60B7C835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02A1-041A-4F94-A7E6-CDD65206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8A70-5E5C-4052-80BC-B9EEBF9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4AEB-3673-4E8B-8CD0-1AC5471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BD49-249C-4535-83AA-713FDF31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DE9A-7416-417F-8D67-021976A3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BA37-2465-43A8-841C-E6116C86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6207-37CF-4E6A-A8A0-1EB2FAD7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B479-8EBF-464E-B265-88D21E8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777C-2818-48A6-85B0-F31E11F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460-3DF0-4CB7-AAC0-3E55BE4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8FB7-03D2-435D-8ACB-BF4F4C6F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1259-D7E0-4C06-B5C6-AF06BEF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0758-E41D-4B71-A2D2-22BF9BE8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0747-307E-45B1-8321-917B1E8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E93B-E3E7-440F-90FA-5B99FCD0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D2BF-6F9B-4A14-9AE1-F4CCF02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AE3F-85D9-4628-88F3-B40C9BF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9BB8-5225-42AB-919B-10CD0F44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DE38-AC46-46CA-BBEA-B7B9700F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AD7-1955-40A1-93C6-381B77BD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362-2B50-4BFE-849D-AB9128BF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1F8-3095-495F-9AB5-23070CE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B8E-7AC3-4E79-ADFC-8E31FC9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0FA-5FD8-4A96-A17B-4480C0B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C8B45-624F-4734-BE6C-B173AC1BE27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4F5EB-F5FC-4EC5-ABC7-C530ACFDDC9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C3CB8-4566-4207-9252-CAE3FE3660B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39799-1DBA-487B-972C-E989B525FDD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800280"/>
            <a:ext cx="9156600" cy="49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увидел трех рабочих, которые толкали тяжело нагруженные тачки, и спросил каждого, что он дела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Первый ответил: «Толкаю эту тяжелую тачку, будь она прокля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Второй сказал: «Зарабатываю на хлеб для своей семьи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А третий гордо произнес: «Я строю прекрасный храм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Трое рабочих делали одно и то же, но чувствовали себя по-разн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ервого работа была каторгой, и он был очень несчастен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чувствовал себя опорой и кормильцем семьи. В его ответе – спокойное достоинств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был горд и счастлив, ведь он служил прекрасной ц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54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573120" y="5153040"/>
            <a:ext cx="11045880" cy="7081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ратите внима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7720" y="182520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ProximaNova"/>
              </a:rPr>
              <a:t>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— 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а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ы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ение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и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авший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ы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36960" y="1825560"/>
            <a:ext cx="48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е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и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ы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ывать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73120" y="5153040"/>
            <a:ext cx="1104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Нельзя проверять правописание безударных гласных О/А в глагольных корнях при помощи глаголов на </a:t>
            </a:r>
            <a:r>
              <a:rPr b="1" lang="ru-RU" sz="2000" spc="-1" strike="noStrike">
                <a:solidFill>
                  <a:srgbClr val="006dbf"/>
                </a:solidFill>
                <a:latin typeface="Century Gothic"/>
                <a:ea typeface="Times New Roman"/>
              </a:rPr>
              <a:t>-ивать, -ывать </a:t>
            </a: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(глаголов несовершенного вида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982440"/>
            <a:ext cx="96012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Рассмотрим пример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38040" y="1561680"/>
            <a:ext cx="9251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1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Укажите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рианты ответов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 которых во всех словах одного ряда пропущена безударная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расст..лать, уг..реть, бл..ст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ф..стиваль, зан..мать, угр..ж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просл..влять, р..стовщик, см..роди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прик..сновение, изл..жение, подр..вня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 т..чилка, ф..рмацевт, выг..ре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5287680"/>
            <a:ext cx="414000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3,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82680" y="703080"/>
            <a:ext cx="9601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2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чередующаяся гласная 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ж..мать, отв..рить (овощи), прим..рение (сторон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сички, оз..рение, г..рев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..раться, зар..сли, прик..сну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л..жить, несг..раемый, пон..ма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..рила, зам..реть, ст..листическ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2320" y="5439960"/>
            <a:ext cx="1879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1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97160" y="969840"/>
            <a:ext cx="9601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непроверяемая гласная кор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ндидат, к..лач, ст..ллаж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..ремония, подг..ревший, ог..рча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..нить, деф..цит, пол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п..рат, пр..зидент, пр..в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..няние, од..ваться, ув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стоятельная работа)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1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13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 2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1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арточка  1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лова, вставить пропущенные буквы, выделить корни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..нительный, з..ря , сл..гаемое, р..внина, согр..шить, оч..рование, к..нонада, заг..реть, ар..мат, заб..рать, к..сательная, опт..мис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им себ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720"/>
            <a:ext cx="8596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енительный, заря , слагаемое, равнина, согрешить, очарование, канонада, загореть, аромат, забирать, касательная, оптимис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Арка 3"/>
          <p:cNvSpPr/>
          <p:nvPr/>
        </p:nvSpPr>
        <p:spPr>
          <a:xfrm flipV="1" rot="10800000">
            <a:off x="1244160" y="2160720"/>
            <a:ext cx="800280" cy="226800"/>
          </a:xfrm>
          <a:custGeom>
            <a:avLst/>
            <a:gdLst/>
            <a:ahLst/>
            <a:rect l="l" t="t" r="r" b="b"/>
            <a:pathLst>
              <a:path w="800100" h="227012">
                <a:moveTo>
                  <a:pt x="0" y="113506"/>
                </a:moveTo>
                <a:cubicBezTo>
                  <a:pt x="0" y="50818"/>
                  <a:pt x="179108" y="0"/>
                  <a:pt x="400050" y="0"/>
                </a:cubicBezTo>
                <a:cubicBezTo>
                  <a:pt x="620992" y="0"/>
                  <a:pt x="800100" y="50818"/>
                  <a:pt x="800100" y="113506"/>
                </a:cubicBezTo>
                <a:lnTo>
                  <a:pt x="743347" y="113506"/>
                </a:lnTo>
                <a:cubicBezTo>
                  <a:pt x="743347" y="82162"/>
                  <a:pt x="589648" y="56753"/>
                  <a:pt x="400050" y="56753"/>
                </a:cubicBezTo>
                <a:cubicBezTo>
                  <a:pt x="210452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Арка 4"/>
          <p:cNvSpPr/>
          <p:nvPr/>
        </p:nvSpPr>
        <p:spPr>
          <a:xfrm>
            <a:off x="3822840" y="2160720"/>
            <a:ext cx="635040" cy="226800"/>
          </a:xfrm>
          <a:custGeom>
            <a:avLst/>
            <a:gdLst/>
            <a:ahLst/>
            <a:rect l="l" t="t" r="r" b="b"/>
            <a:pathLst>
              <a:path w="635000" h="227012">
                <a:moveTo>
                  <a:pt x="0" y="113506"/>
                </a:moveTo>
                <a:cubicBezTo>
                  <a:pt x="0" y="50818"/>
                  <a:pt x="142150" y="0"/>
                  <a:pt x="317500" y="0"/>
                </a:cubicBezTo>
                <a:cubicBezTo>
                  <a:pt x="492850" y="0"/>
                  <a:pt x="635000" y="50818"/>
                  <a:pt x="635000" y="113506"/>
                </a:cubicBezTo>
                <a:lnTo>
                  <a:pt x="578247" y="113506"/>
                </a:lnTo>
                <a:cubicBezTo>
                  <a:pt x="578247" y="82162"/>
                  <a:pt x="461507" y="56753"/>
                  <a:pt x="317500" y="56753"/>
                </a:cubicBezTo>
                <a:cubicBezTo>
                  <a:pt x="173493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Арка 5"/>
          <p:cNvSpPr/>
          <p:nvPr/>
        </p:nvSpPr>
        <p:spPr>
          <a:xfrm>
            <a:off x="5181480" y="2160720"/>
            <a:ext cx="482760" cy="272880"/>
          </a:xfrm>
          <a:custGeom>
            <a:avLst/>
            <a:gdLst/>
            <a:ahLst/>
            <a:rect l="l" t="t" r="r" b="b"/>
            <a:pathLst>
              <a:path w="482600" h="273050">
                <a:moveTo>
                  <a:pt x="0" y="136525"/>
                </a:moveTo>
                <a:cubicBezTo>
                  <a:pt x="0" y="61124"/>
                  <a:pt x="108034" y="0"/>
                  <a:pt x="241300" y="0"/>
                </a:cubicBezTo>
                <a:cubicBezTo>
                  <a:pt x="374566" y="0"/>
                  <a:pt x="482600" y="61124"/>
                  <a:pt x="482600" y="136525"/>
                </a:cubicBezTo>
                <a:lnTo>
                  <a:pt x="414338" y="136525"/>
                </a:lnTo>
                <a:cubicBezTo>
                  <a:pt x="414338" y="98824"/>
                  <a:pt x="336866" y="68262"/>
                  <a:pt x="241300" y="68262"/>
                </a:cubicBezTo>
                <a:cubicBezTo>
                  <a:pt x="145734" y="68262"/>
                  <a:pt x="68262" y="98824"/>
                  <a:pt x="68262" y="136525"/>
                </a:cubicBezTo>
                <a:lnTo>
                  <a:pt x="0" y="13652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Арка 6"/>
          <p:cNvSpPr/>
          <p:nvPr/>
        </p:nvSpPr>
        <p:spPr>
          <a:xfrm>
            <a:off x="6900840" y="2182680"/>
            <a:ext cx="693720" cy="204840"/>
          </a:xfrm>
          <a:custGeom>
            <a:avLst/>
            <a:gdLst/>
            <a:ahLst/>
            <a:rect l="l" t="t" r="r" b="b"/>
            <a:pathLst>
              <a:path w="693737" h="204787">
                <a:moveTo>
                  <a:pt x="0" y="102394"/>
                </a:moveTo>
                <a:cubicBezTo>
                  <a:pt x="0" y="45843"/>
                  <a:pt x="155299" y="0"/>
                  <a:pt x="346869" y="0"/>
                </a:cubicBezTo>
                <a:cubicBezTo>
                  <a:pt x="538439" y="0"/>
                  <a:pt x="693738" y="45843"/>
                  <a:pt x="693738" y="102394"/>
                </a:cubicBezTo>
                <a:lnTo>
                  <a:pt x="642540" y="102394"/>
                </a:lnTo>
                <a:cubicBezTo>
                  <a:pt x="642540" y="74119"/>
                  <a:pt x="510163" y="51197"/>
                  <a:pt x="346868" y="51197"/>
                </a:cubicBezTo>
                <a:cubicBezTo>
                  <a:pt x="183573" y="51197"/>
                  <a:pt x="51196" y="74119"/>
                  <a:pt x="51196" y="102394"/>
                </a:cubicBezTo>
                <a:lnTo>
                  <a:pt x="0" y="102394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Арка 7"/>
          <p:cNvSpPr/>
          <p:nvPr/>
        </p:nvSpPr>
        <p:spPr>
          <a:xfrm>
            <a:off x="1486080" y="2730600"/>
            <a:ext cx="749160" cy="122040"/>
          </a:xfrm>
          <a:custGeom>
            <a:avLst/>
            <a:gdLst/>
            <a:ahLst/>
            <a:rect l="l" t="t" r="r" b="b"/>
            <a:pathLst>
              <a:path w="749300" h="122238">
                <a:moveTo>
                  <a:pt x="0" y="61119"/>
                </a:moveTo>
                <a:cubicBezTo>
                  <a:pt x="0" y="27364"/>
                  <a:pt x="167737" y="0"/>
                  <a:pt x="374650" y="0"/>
                </a:cubicBezTo>
                <a:cubicBezTo>
                  <a:pt x="581563" y="0"/>
                  <a:pt x="749300" y="27364"/>
                  <a:pt x="749300" y="61119"/>
                </a:cubicBezTo>
                <a:lnTo>
                  <a:pt x="718741" y="61119"/>
                </a:lnTo>
                <a:cubicBezTo>
                  <a:pt x="718741" y="44241"/>
                  <a:pt x="564686" y="30559"/>
                  <a:pt x="374650" y="30559"/>
                </a:cubicBezTo>
                <a:cubicBezTo>
                  <a:pt x="184614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Арка 8"/>
          <p:cNvSpPr/>
          <p:nvPr/>
        </p:nvSpPr>
        <p:spPr>
          <a:xfrm>
            <a:off x="3403440" y="2730600"/>
            <a:ext cx="419400" cy="122040"/>
          </a:xfrm>
          <a:custGeom>
            <a:avLst/>
            <a:gdLst/>
            <a:ahLst/>
            <a:rect l="l" t="t" r="r" b="b"/>
            <a:pathLst>
              <a:path w="419100" h="122238">
                <a:moveTo>
                  <a:pt x="0" y="61119"/>
                </a:moveTo>
                <a:cubicBezTo>
                  <a:pt x="0" y="27364"/>
                  <a:pt x="93819" y="0"/>
                  <a:pt x="209550" y="0"/>
                </a:cubicBezTo>
                <a:cubicBezTo>
                  <a:pt x="325281" y="0"/>
                  <a:pt x="419100" y="27364"/>
                  <a:pt x="419100" y="61119"/>
                </a:cubicBezTo>
                <a:lnTo>
                  <a:pt x="388541" y="61119"/>
                </a:lnTo>
                <a:cubicBezTo>
                  <a:pt x="388541" y="44241"/>
                  <a:pt x="308404" y="30559"/>
                  <a:pt x="209550" y="30559"/>
                </a:cubicBezTo>
                <a:cubicBezTo>
                  <a:pt x="110696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Арка 9"/>
          <p:cNvSpPr/>
          <p:nvPr/>
        </p:nvSpPr>
        <p:spPr>
          <a:xfrm>
            <a:off x="5346720" y="2664000"/>
            <a:ext cx="1384200" cy="234720"/>
          </a:xfrm>
          <a:custGeom>
            <a:avLst/>
            <a:gdLst/>
            <a:ahLst/>
            <a:rect l="l" t="t" r="r" b="b"/>
            <a:pathLst>
              <a:path w="1384300" h="234950">
                <a:moveTo>
                  <a:pt x="0" y="117475"/>
                </a:moveTo>
                <a:cubicBezTo>
                  <a:pt x="0" y="52595"/>
                  <a:pt x="309886" y="0"/>
                  <a:pt x="692150" y="0"/>
                </a:cubicBezTo>
                <a:cubicBezTo>
                  <a:pt x="1074414" y="0"/>
                  <a:pt x="1384300" y="52595"/>
                  <a:pt x="1384300" y="117475"/>
                </a:cubicBezTo>
                <a:lnTo>
                  <a:pt x="1325563" y="117475"/>
                </a:lnTo>
                <a:cubicBezTo>
                  <a:pt x="1325563" y="85035"/>
                  <a:pt x="1041974" y="58737"/>
                  <a:pt x="692150" y="58737"/>
                </a:cubicBezTo>
                <a:cubicBezTo>
                  <a:pt x="342326" y="58737"/>
                  <a:pt x="58737" y="85035"/>
                  <a:pt x="58737" y="117475"/>
                </a:cubicBezTo>
                <a:lnTo>
                  <a:pt x="0" y="11747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Арка 10"/>
          <p:cNvSpPr/>
          <p:nvPr/>
        </p:nvSpPr>
        <p:spPr>
          <a:xfrm>
            <a:off x="7442280" y="2730600"/>
            <a:ext cx="533160" cy="122040"/>
          </a:xfrm>
          <a:custGeom>
            <a:avLst/>
            <a:gdLst/>
            <a:ahLst/>
            <a:rect l="l" t="t" r="r" b="b"/>
            <a:pathLst>
              <a:path w="533400" h="122238">
                <a:moveTo>
                  <a:pt x="0" y="61119"/>
                </a:moveTo>
                <a:cubicBezTo>
                  <a:pt x="0" y="27364"/>
                  <a:pt x="119406" y="0"/>
                  <a:pt x="266700" y="0"/>
                </a:cubicBezTo>
                <a:cubicBezTo>
                  <a:pt x="413994" y="0"/>
                  <a:pt x="533400" y="27364"/>
                  <a:pt x="533400" y="61119"/>
                </a:cubicBezTo>
                <a:lnTo>
                  <a:pt x="502841" y="61119"/>
                </a:lnTo>
                <a:cubicBezTo>
                  <a:pt x="502841" y="44241"/>
                  <a:pt x="397117" y="30559"/>
                  <a:pt x="266700" y="30559"/>
                </a:cubicBezTo>
                <a:cubicBezTo>
                  <a:pt x="136283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Арка 11"/>
          <p:cNvSpPr/>
          <p:nvPr/>
        </p:nvSpPr>
        <p:spPr>
          <a:xfrm>
            <a:off x="1092240" y="3263760"/>
            <a:ext cx="1143000" cy="88920"/>
          </a:xfrm>
          <a:custGeom>
            <a:avLst/>
            <a:gdLst/>
            <a:ahLst/>
            <a:rect l="l" t="t" r="r" b="b"/>
            <a:pathLst>
              <a:path w="1143000" h="88900">
                <a:moveTo>
                  <a:pt x="0" y="44450"/>
                </a:moveTo>
                <a:cubicBezTo>
                  <a:pt x="0" y="19901"/>
                  <a:pt x="255869" y="0"/>
                  <a:pt x="571500" y="0"/>
                </a:cubicBezTo>
                <a:cubicBezTo>
                  <a:pt x="887131" y="0"/>
                  <a:pt x="1143000" y="19901"/>
                  <a:pt x="1143000" y="44450"/>
                </a:cubicBezTo>
                <a:lnTo>
                  <a:pt x="1120775" y="44450"/>
                </a:lnTo>
                <a:cubicBezTo>
                  <a:pt x="1120775" y="32175"/>
                  <a:pt x="874856" y="22225"/>
                  <a:pt x="571500" y="22225"/>
                </a:cubicBezTo>
                <a:cubicBezTo>
                  <a:pt x="268144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Арка 12"/>
          <p:cNvSpPr/>
          <p:nvPr/>
        </p:nvSpPr>
        <p:spPr>
          <a:xfrm>
            <a:off x="2819520" y="3195720"/>
            <a:ext cx="583920" cy="156960"/>
          </a:xfrm>
          <a:custGeom>
            <a:avLst/>
            <a:gdLst/>
            <a:ahLst/>
            <a:rect l="l" t="t" r="r" b="b"/>
            <a:pathLst>
              <a:path w="584200" h="157162">
                <a:moveTo>
                  <a:pt x="0" y="78581"/>
                </a:moveTo>
                <a:cubicBezTo>
                  <a:pt x="0" y="35182"/>
                  <a:pt x="130778" y="0"/>
                  <a:pt x="292100" y="0"/>
                </a:cubicBezTo>
                <a:cubicBezTo>
                  <a:pt x="453422" y="0"/>
                  <a:pt x="584200" y="35182"/>
                  <a:pt x="584200" y="78581"/>
                </a:cubicBezTo>
                <a:lnTo>
                  <a:pt x="544910" y="78581"/>
                </a:lnTo>
                <a:cubicBezTo>
                  <a:pt x="544910" y="56881"/>
                  <a:pt x="431723" y="39290"/>
                  <a:pt x="292100" y="39290"/>
                </a:cubicBezTo>
                <a:cubicBezTo>
                  <a:pt x="152477" y="39290"/>
                  <a:pt x="39290" y="56881"/>
                  <a:pt x="39290" y="78581"/>
                </a:cubicBezTo>
                <a:lnTo>
                  <a:pt x="0" y="78581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Арка 13"/>
          <p:cNvSpPr/>
          <p:nvPr/>
        </p:nvSpPr>
        <p:spPr>
          <a:xfrm>
            <a:off x="4165560" y="3225960"/>
            <a:ext cx="482760" cy="126720"/>
          </a:xfrm>
          <a:custGeom>
            <a:avLst/>
            <a:gdLst/>
            <a:ahLst/>
            <a:rect l="l" t="t" r="r" b="b"/>
            <a:pathLst>
              <a:path w="482600" h="127000">
                <a:moveTo>
                  <a:pt x="0" y="63500"/>
                </a:moveTo>
                <a:cubicBezTo>
                  <a:pt x="0" y="28430"/>
                  <a:pt x="108034" y="0"/>
                  <a:pt x="241300" y="0"/>
                </a:cubicBezTo>
                <a:cubicBezTo>
                  <a:pt x="374566" y="0"/>
                  <a:pt x="482600" y="28430"/>
                  <a:pt x="482600" y="63500"/>
                </a:cubicBezTo>
                <a:lnTo>
                  <a:pt x="450850" y="63500"/>
                </a:lnTo>
                <a:cubicBezTo>
                  <a:pt x="450850" y="45965"/>
                  <a:pt x="357031" y="31750"/>
                  <a:pt x="241300" y="31750"/>
                </a:cubicBezTo>
                <a:cubicBezTo>
                  <a:pt x="125569" y="31750"/>
                  <a:pt x="31750" y="45965"/>
                  <a:pt x="31750" y="63500"/>
                </a:cubicBezTo>
                <a:lnTo>
                  <a:pt x="0" y="6350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Арка 14"/>
          <p:cNvSpPr/>
          <p:nvPr/>
        </p:nvSpPr>
        <p:spPr>
          <a:xfrm>
            <a:off x="6477120" y="3263760"/>
            <a:ext cx="965160" cy="88920"/>
          </a:xfrm>
          <a:custGeom>
            <a:avLst/>
            <a:gdLst/>
            <a:ahLst/>
            <a:rect l="l" t="t" r="r" b="b"/>
            <a:pathLst>
              <a:path w="965200" h="88900">
                <a:moveTo>
                  <a:pt x="0" y="44450"/>
                </a:moveTo>
                <a:cubicBezTo>
                  <a:pt x="0" y="19901"/>
                  <a:pt x="216067" y="0"/>
                  <a:pt x="482600" y="0"/>
                </a:cubicBezTo>
                <a:cubicBezTo>
                  <a:pt x="749133" y="0"/>
                  <a:pt x="965200" y="19901"/>
                  <a:pt x="965200" y="44450"/>
                </a:cubicBezTo>
                <a:lnTo>
                  <a:pt x="942975" y="44450"/>
                </a:lnTo>
                <a:cubicBezTo>
                  <a:pt x="942975" y="32175"/>
                  <a:pt x="736858" y="22225"/>
                  <a:pt x="482600" y="22225"/>
                </a:cubicBezTo>
                <a:cubicBezTo>
                  <a:pt x="228342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62040"/>
            <a:ext cx="83646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а к ЕГЭ. Трудные случаи орфографии (задание №9)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ммы корн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1117440"/>
            <a:ext cx="9601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создать условия для достижения образовательных результатов через изучение написания слов с безударными гласными в корне, проверяемыми ударением, и чередующимися гласными в корне, подготовка в ЕГЭ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0280" y="369360"/>
            <a:ext cx="9601200" cy="17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фоэпическая разминка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Заморочки из бочки»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720"/>
            <a:ext cx="91263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ределите данные слова по трём бочкам: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перв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втор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 ударением на последнем слоге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пансер, завидно, занял, заперта, искра, каталог, намерение, начал, начавшись, отозвалась, торты, углубить, цепочка, шарфы, эксперт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931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3" descr="https://avatars.mds.yandex.net/i?id=8b10018d046ac1dc530ab419fc33a886333e4208-8709977-images-thumbs&amp;n=13"/>
          <p:cNvPicPr/>
          <p:nvPr/>
        </p:nvPicPr>
        <p:blipFill>
          <a:blip r:embed="rId1"/>
          <a:stretch/>
        </p:blipFill>
        <p:spPr>
          <a:xfrm>
            <a:off x="1155600" y="25272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https://avatars.mds.yandex.net/i?id=8b10018d046ac1dc530ab419fc33a886333e4208-8709977-images-thumbs&amp;n=13"/>
          <p:cNvPicPr/>
          <p:nvPr/>
        </p:nvPicPr>
        <p:blipFill>
          <a:blip r:embed="rId2"/>
          <a:stretch/>
        </p:blipFill>
        <p:spPr>
          <a:xfrm>
            <a:off x="4876920" y="25272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https://avatars.mds.yandex.net/i?id=8b10018d046ac1dc530ab419fc33a886333e4208-8709977-images-thumbs&amp;n=13"/>
          <p:cNvPicPr/>
          <p:nvPr/>
        </p:nvPicPr>
        <p:blipFill>
          <a:blip r:embed="rId3"/>
          <a:stretch/>
        </p:blipFill>
        <p:spPr>
          <a:xfrm>
            <a:off x="8458200" y="2527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6"/>
          <p:cNvSpPr/>
          <p:nvPr/>
        </p:nvSpPr>
        <p:spPr>
          <a:xfrm>
            <a:off x="1841400" y="3276720"/>
            <a:ext cx="10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499000" y="3492360"/>
            <a:ext cx="152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вши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9067680" y="3174840"/>
            <a:ext cx="14353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панс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ер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звалА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лубИ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9647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Алгоритм  выполнения задания № 9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95280" y="1663200"/>
            <a:ext cx="98805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нимательно прочитайте задание, поймите, слов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какому правилу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должны быть в ряду: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в корне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ил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е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спользуй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тод исключения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если в ряду нашли слово по другому правилу, переходите к следующему ряду. Так вы значительно сократит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ответе должно быть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сколько цифр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поэтому внимательно рассматривайте слова каждого ряда, не пропустите верный отв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 с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мися гласн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то вспомните эти корни, не перепутайте их с проверяемыми гласными (например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ься 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ться — это чередующиеся гласные в корне, 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ь — это проверяемая —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проверяемыми или непроверяем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гласными в корне, то сначала найди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СЕ гласные в корне.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хотя бы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одна из них подходит по правилу,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 данное слово будет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правильным для отве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728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рфограм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286000"/>
            <a:ext cx="91011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непроверяема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гласная в корне, проверяемая ударени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0-09T17:35:13Z</dcterms:created>
  <dc:creator>Пользователь</dc:creator>
  <dc:description/>
  <dc:language>en-US</dc:language>
  <cp:lastModifiedBy>User</cp:lastModifiedBy>
  <dcterms:modified xsi:type="dcterms:W3CDTF">2025-10-16T03:49:12Z</dcterms:modified>
  <cp:revision>20</cp:revision>
  <dc:subject/>
  <dc:title>Тема: Подготовка к ЕГЭ. Трудные случаи орфографии (задание №9)</dc:title>
</cp:coreProperties>
</file>